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91BD-4811-48FE-94E5-9296355CF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B93D-8B69-429E-80A5-C5DA14208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0836-41B8-47EE-A1EE-757FECA66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92FB-B0E9-464C-9B86-CD786B2FF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C789-47A8-4458-8137-77030308F0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AFA0-9545-47B8-AA04-659E7EF14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5505-92EE-49A1-9DC2-66A8B718EF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28C8-1AE3-46B5-A989-A00C39CD76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936A-00DB-424E-AE23-C3CD0B44F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E516-2A58-42FA-B5BF-C363E93F3E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8FDE-764A-46BB-A067-C3303B4ACA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8952-3062-461D-9C31-750BFC439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D58D-6D76-4BCC-8A3B-38B1EAC095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194C-181F-43C9-AB5A-9AA5B28D38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3198-D305-4894-9387-8F2A34D63A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27ED-F531-4B02-A6D8-D75B384885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6F68-FB53-4EBB-9D33-DA1165BB6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D0E6-8498-4816-BA04-4BE773D24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02F3-8CF7-450D-A290-87F56EEBC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A2B9-59CE-4987-9B8B-2C3507DEB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59CC-C8B2-45E7-9005-5BB582231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27D8-2BB9-44C1-9311-73581019A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A448-D3FD-4F75-8A4F-5C82C46D4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F04D-B17D-4784-876C-F8FDB1448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9BA5-2C6C-418C-A5AA-B40937939EBA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2C07-E329-4E17-BEA3-F77861BF965D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segen.co.uk/eng/wind/windspeed.htm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esson 2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ll about GI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(which stands for Geographic Information Systems)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535D-2C68-4850-8734-64149191D9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formation can be shared between utilities via a secure web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website uses a GIS to pinpoint the location of water mains, gas pipes, electricity cables and sewers as well as details of current and future work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llowing all the utilities to access this information means that all utilities can agree to carry out work at the same tim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igging up the road only once helps to minimise public disruption and saving time and money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867280" y="765000"/>
            <a:ext cx="2678400" cy="2111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724360" y="2997360"/>
            <a:ext cx="28735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A7F7-93CE-475A-B198-BB5653DC7B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ne more exampl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t’s a breeze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CA91-6849-48ED-AA3A-11D10BFEA6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 farms can provide a source of alternative energy but finding the right location for the turbines can be difficul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works for an energy company that is keen to investigate the use of wind turbines as an alternative way of generating pow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is asked to work on a project to identify suitable sites for a new wind farm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ation needs to balance environmental concerns with operational efficiency.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724360" y="1773360"/>
            <a:ext cx="30308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473C-4546-43B9-82CD-DA9A1773B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has followed the debate in the newspapers and knows that the effect of the turbines’ appearance on the landscape is a major concer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any other factors, however, also need to be considered when choosing a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se include wind speed, wind direction, distance from the existing electrical grid system, access to the site, size of the site and the shape and profile of the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535200" cy="2721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156360" y="4064040"/>
            <a:ext cx="2592360" cy="23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5833-E00D-4CB4-A73E-7E752B0E6B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y inputting data from various sources regarding weather, civil and military airfields, telecommunications and environmental organisations, Dave begins to put together a case for the available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still needs to take into account the height and spacing of the turbines so that they can produce the required amount of electricity balanced against their visual impac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13200" cy="2993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99200" y="4213440"/>
            <a:ext cx="1930320" cy="14554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yone spy anything wrong with this map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96F9-DB69-4D34-8AD7-CB1C18298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adds height data and information to produce a 3D model giving a virtual view of the site as it would appear from different directions, distances and perspectiv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enables him to focus on particular locations to check the turbines’ impact on the view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formation Dave produces is used to support planning applications and to reassure local residents that the wind farm will cause minimal disrup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788000" y="981000"/>
            <a:ext cx="412884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317D-0C19-4DD9-B62A-0C0EB761AA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o find out if you could use a wind turbine on your hous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SK YOUR PARENTS FIRS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n go to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http://www.segen.co.uk/eng/wind/windspeed.ht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nter business type – residential, you name etc and press Looku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f the answer is 5 or better still 5.5 m/s then your home is potentially a good place to put a small wind turbine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2DCD-208F-4DAB-BC86-FCB46FE83D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ow for the worksheet and to work towards your 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FAD8-8E7B-4E8D-8A2D-7625C52F1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1B7F-F2F6-4EF2-B4D1-7A2537AC67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3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9B7C-546B-4D59-BE51-EA523571D0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What is GIS?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Introduction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aper maps only tell us where a place is.  GIS uses digital maps and information to help us make decisions and solve problem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Hardware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GIS runs on mainframe computers, PCs, small PDAs or even mobile phones to organise information and map the results of investig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949480" cy="21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0010-B918-45E1-A82D-FFF0EF617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E4B1-89DB-4D11-968C-04E5DAF3D6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771480"/>
            <a:ext cx="8064360" cy="551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7BC8-689F-449B-A1FE-88A00102B4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Click on the  ‘i’ by Lockerford to find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Population - 2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small village to the west of Melches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t grew on the site of a ford that farmers used when bringing their cattle to Melchester marke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Now seen as one of the most desirable and expensive places to live in the area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ots of commuters choose to live ther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atest flood information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Casualties – 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vacuations - 100 peop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stimated insurance claims - £ 50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B48D-A7E6-4313-9F58-B409A53F04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1. Locker Valley Storage basi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525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arth-moving equipment will dig out two large basins connected to the river by drainage channel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imes of high water, flood gates are opened allowing water to drain away from the river into the basin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ker Valley meadows are home to many wetland bird species that will be disturbed during construction. However, long term the wildlife will benefi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people of Lockerby are likely to be upset by all the noise from the earth moving machiner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5451480" y="981000"/>
            <a:ext cx="3584520" cy="439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20163600">
            <a:off x="5651640" y="2997360"/>
            <a:ext cx="50472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dc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5E0C-AF8F-435C-8474-77102FC0B6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aving gathered the inform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68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will need to put in a sco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you cannot really do that until you know a bout ALL the site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ence the worksheet I hope you have open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148360" y="1125360"/>
            <a:ext cx="345600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F7FB-EE2C-4C1C-8416-D7A99B197D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2. Locker Brook Relief Channe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547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0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large drainage channel connecting the Locker Brook to the River Falm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t times of high water, a flood gate is opened which allows the floodwater to be safely diverted past west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No opposition whatsoever from local residents, although the nearby main road will need to be closed during construc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Some high quality farmland to the south-west of Melchester will also be los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432480" y="981000"/>
            <a:ext cx="2459160" cy="3743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6877080" y="4365360"/>
            <a:ext cx="574560" cy="718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1A8A-BC2C-4089-A426-92485922EA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3. Melchester drain by pas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otal Cost = £ 12.0 mill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large underground tunnel offering a more direct escape route for floodwater from the River Falm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t times of high water, the tunnel is opened diverting water from the meanders near the town centr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ittle environmental impact but local residents concerned about possible damage to houses caused by tunnel excavation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156360" y="907920"/>
            <a:ext cx="1919160" cy="2880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 flipV="1">
            <a:off x="7956720" y="2565000"/>
            <a:ext cx="792000" cy="142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6399-E91F-41F7-9770-5D479791D4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4. Falmer Ring Dyk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massive ringed embankment around the Falmer Levels which would allow floodwaters from the River Falmer and the River Dank to be held back, protecting all of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ould cause significant damage to the environment during construction due to the amount of earth that would need to be mov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is expected to fill only once every 200 yea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eople living in north Melchester are likely to be upset by the noise from all the earth moving machinery require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6459480" y="981000"/>
            <a:ext cx="237960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2EF0-7CFB-4BC4-8810-87377926DC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5 Swinford temporary basin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emovable flood walls that can be mounted into place with relatively little warning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ittle environmental impac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Swinford are highly supportive of the proposal although the people of Melchester are concerned that it would merely divert floodwater downstream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300720" y="1125360"/>
            <a:ext cx="2498760" cy="280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8101080" y="2852280"/>
            <a:ext cx="287280" cy="136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055B-E42F-4159-87F4-AAC04BA7EB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6. Bend Flood Wal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permanent flood wall made                            from local stone built to protect                 the village of Ben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would also allow access to                          Bend and Narrowbridge during                         times of flood when the main                       road is block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Bend are highly supportive of the proposal although the Bridgefordshire Tourist Board is concerned that it will ruin the lovely scenic view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508720" y="1052640"/>
            <a:ext cx="3330360" cy="2006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7092720" y="549360"/>
            <a:ext cx="647640" cy="1366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54A1-25B4-4E14-9867-067CCFE035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Softwar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GIS software is a set of computer ‘tools’ for collecting, storing, processing and displaying sets of information linked to places on maps. 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re are different types of GIS ‘tools’:  for instance, a GIS that analyses land use is different from a GIS that maps the quickest route to a fi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4240080" cy="31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E279-5D1A-4A36-9541-05DF47F51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Electronic maps and images: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 essential component of any GIS is some kind of map or image of an area. This can be a digital map, satellite image or aerial photograph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Many GIS will use a full range of map data and images as a base to link information agains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 maps are produced  either as raster or vector dat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50920" y="4005000"/>
            <a:ext cx="8208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Raster map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se are images made by a series of coloured dots on a screen (pixels), just like high quality digital photograph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can be thought of as ‘unintelligent’ as you can only obtain information that is visually represented on them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take up a lot of computer storage space but can be very useful as background maps to other information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5361120" y="765000"/>
            <a:ext cx="3531960" cy="2586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817B-1F16-482B-967A-820497AA30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Vector maps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ach vector map feature is recorded using XY coordinat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se may be a single point (like a trig point), lines (such as roads) or polygons (such as buildings or woods)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referenced features of vector maps make it possible for a GIS to link information from spreadsheets and databases to the map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Vector data is stored in themed layers such a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oads, water, settlemen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003640" y="981000"/>
            <a:ext cx="3781440" cy="28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16DE-5A8A-4DDE-B55A-6741F70D2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392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Data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asier to make sense of complicated spreadsheets and databases when they are linked to maps in a GI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stimated that over 80% of all data has some link to a geographic pla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People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 vital ingredient!  We need people who understand digital maps and databases and know how to use GIS to organise the data on map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y can ask the right questions and produce new maps showing the results. 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is helps to plan the way we live and use our environment for the futur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796000" y="115920"/>
            <a:ext cx="3092400" cy="2274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791320" y="2349360"/>
            <a:ext cx="310176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796000" y="4594320"/>
            <a:ext cx="307980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6BFD-05A0-4B8F-A9FD-C8ACB439A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 example of how it wor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 Hole Story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8E50-51B7-438D-889A-FAE0E4D6E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vast networks of underground pipes supplying our water, electricity and gas are hidden from view, so how do we know where it’s safe to dig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Louise works for a water authority to maintain the company's network of water mains and sewe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he uses a GIS to create a complete overview of the pipeline which helps her to monitor its condition and performan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716360" y="1413000"/>
            <a:ext cx="37101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FFD-1129-4203-8057-7D59E476F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 minimise the risks involved in digging trenches, laying cables and other maintenance and building projects, utility companies must share their underground asset maps upon request with other organis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GIS is built up of lots of different layers of information which users can Switch on and off depending on their nee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572000" y="1052640"/>
            <a:ext cx="4092480" cy="32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3EF1-9170-419C-9A83-755D11868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21:00:19Z</dcterms:created>
  <dc:creator>Lindy</dc:creator>
  <dc:description/>
  <dc:language>en-US</dc:language>
  <cp:lastModifiedBy>Lindy</cp:lastModifiedBy>
  <dcterms:modified xsi:type="dcterms:W3CDTF">2008-08-13T21:55:40Z</dcterms:modified>
  <cp:revision>2</cp:revision>
  <dc:subject/>
  <dc:title>Lesson 2 All about G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